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78CD-CAFC-492D-A787-538313AC5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12A5-61A0-4CDF-9E3D-39199210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1959-7FCB-4FAA-AFDD-64E2405F1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4B53-8808-4ADE-8E79-3CCC98A7B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262F-DE48-4835-BED4-079AE169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D9EC-FBA4-4FCA-948B-208F0446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2CAF-1E8C-4EEE-8DCC-0BEF87EA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2659-C2D6-41DE-844D-0D52B2DE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61A0-7C80-4EB8-A0D3-8FD170F5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9722-81E8-4034-AE78-C6C7DFFD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79F4-39CE-4AE8-A7E1-1045658A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35D7-EC9D-4B0B-AFC8-5390A9BC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0882-3CA7-4854-BFAD-796254B3E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ed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209680"/>
            <a:ext cx="70106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What makes a person RICH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rot="19922400">
            <a:off x="7391160" y="5028840"/>
            <a:ext cx="1752480" cy="1406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19015800">
            <a:off x="2285640" y="4419720"/>
            <a:ext cx="2238480" cy="2253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rot="1433400">
            <a:off x="0" y="419076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 rot="18300600">
            <a:off x="5314680" y="780840"/>
            <a:ext cx="236232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APPINESS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514600" y="365724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Arial"/>
              </a:rPr>
              <a:t>Da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 rot="19798800">
            <a:off x="3886200" y="533520"/>
            <a:ext cx="22860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amily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 rot="1366800">
            <a:off x="1981080" y="304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1523880" y="33526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038480" y="5106960"/>
            <a:ext cx="213372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onleyne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 rot="19726800">
            <a:off x="304560" y="304560"/>
            <a:ext cx="1238040" cy="1239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 rot="20156400">
            <a:off x="6400440" y="3429000"/>
            <a:ext cx="1728720" cy="1881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800600" y="3000240"/>
            <a:ext cx="1295280" cy="385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JOB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 rot="20094600">
            <a:off x="0" y="3429000"/>
            <a:ext cx="1857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rediblity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0" y="236232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 rot="5400000">
            <a:off x="6527160" y="1244520"/>
            <a:ext cx="3175200" cy="1447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Compasio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22:29:18Z</dcterms:created>
  <dc:creator>Tom S. Gryboski</dc:creator>
  <dc:description/>
  <dc:language>en-US</dc:language>
  <cp:lastModifiedBy>Tom S. Gryboski</cp:lastModifiedBy>
  <dcterms:modified xsi:type="dcterms:W3CDTF">2011-11-30T02:47:10Z</dcterms:modified>
  <cp:revision>2</cp:revision>
  <dc:subject/>
  <dc:title>Slide 1</dc:title>
</cp:coreProperties>
</file>